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1EF6A-44D0-4330-A9FA-1AF751F3D2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3D530A-D4B7-4B34-8F47-CB9CB59FD6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23490-B609-4849-A0DB-7ACB5E2418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20D687-21B4-4F0B-BFAE-84DD56C184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222C7F-415B-4B5A-82F9-A3FFD1F4FE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EBF56-4362-4A0B-92D8-5A2D8FF7E9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B5AEB-AFEE-47A5-8DD7-BB2A4A9ECA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60191-4491-47AC-969D-B9D09F02D4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22B27B-E348-4380-9B49-58ADF844B1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EB418-AD4C-4153-8D3F-BB762E0B5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2451-2D8F-4E0D-B05D-13C50038A8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3094-D6E1-4273-8AC5-5AA6142EE7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9546-59B3-4492-AD94-5E69987AC5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DDD8-9DB3-46BA-80C2-A0A5C6E002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2C25-E748-4CFE-B0A1-FAA347B38C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3407-B720-4198-8EC4-79C28A2F3A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BF02-9B16-4FCF-87C6-6402868D0F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5C60-3D6F-4F38-BD2E-13857E2DF9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E789-5593-453F-8189-1F75598078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E5ED-20B5-4CB7-B935-B7CBFD777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A4D2-C7F7-4844-AF1C-630544547E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80F14-BD64-4874-916A-4311720E3F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0D9DB-53C2-461F-80B1-33D82D3C0F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283CC-DEAD-4CDA-B03E-49AA980837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94D56-8AE1-440A-8A0F-C7792C3B69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30158-7E7C-491F-89DE-FEB0C05565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F3228-CD59-4B71-9007-B6667857B4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E5EB6-35D3-46C7-A2C4-7F15B40222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5A6F4-7496-4D6A-9EC8-83398F0578B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109C9-83EB-453B-8811-912A9E4F4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7D1D-E2AA-4DA4-8F05-A4DE6A0CC5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B186A-B7A4-45B9-ADEF-C70B416297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0BBE8-11FD-4074-A4B5-958E51AF0A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25A5D-9D30-45A8-A56D-A023AC599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795B-1206-48EC-B3F9-6819C8A8E3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D1FC-9107-4B7F-B8A2-F82875B4EA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D7E5-2889-40C7-B45A-FA1D608E6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9879-A5D0-43C9-B031-C5C30D7131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AD48-60C4-456C-B830-B2F15211A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B64A-DE36-4142-8067-5B1991D94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F2C0-126A-415A-B523-2E9E7ECAC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2AE4-1E79-49EB-BF20-31D7FDAF8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BBAE-E5A0-47B6-9EDC-71E509819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5F07-4F3C-4561-AB82-AF19B8EB6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21F9-2C29-4D95-9C00-86B002FC21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615A-D932-4C89-B705-E2DC1CF3AA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ADD0-D02C-4FCE-93D1-BC9CA90930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E5B91-F416-4849-BA41-7772C08D6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D0567-E9B6-46B3-9DA1-00279D6B3B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BF9EE-DC2A-4EC6-83D0-70E1A372E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F788-296D-42E5-AA6B-23D8E7163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CE78E-78D8-4C48-85BB-0063CE999A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2AE2-DACD-4AA1-BBE1-17715D6C63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852DE-F728-4EB2-A052-2CD44963B7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44455-E860-4EBB-9C1B-7A8C4BA886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F559A-2B13-4643-8013-3A2D84861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D1074-D00A-4B8B-9F00-FECE2733B6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8325-2849-43B7-9E34-562AA8676E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3E39-800E-4C04-9FD0-DE1EC649DE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47C-28EE-4CFB-BC33-155F68722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4FC1-762C-414B-B565-6E23DBFBCF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096-6A49-459B-80BF-8FD302FD02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1F78-436C-4B9D-BE2D-28027F7962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4986-02C6-4254-B4E7-5BF13A53D0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38D1-5AFC-411B-BA39-F074977C80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D7EE-7683-43E6-81D2-41EA0C1CD4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0195-AAC8-403D-B341-CA932E339B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58EF-908E-4533-B834-3C699AD3ED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AABF-3B0B-4EA7-BE75-D1BC46FE5D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64DA2-4901-4EA1-B683-1F417B25C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AF31F-0659-47B4-A057-7E56EDEBC0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2221E-59C4-44CB-BA48-8E0F90CA3C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33514-A9D3-4EFB-8AFF-2B0633A2CA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A5731-498D-41F6-9B98-773A302684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C56CC-88C4-4DCB-ABF7-B257528972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30049-5DAF-48A0-8E5A-71A730DB05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0642C-3123-45E8-A7CF-846DE64F57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18713-34D7-474B-AE92-2B99AB6A665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6566-5E48-4836-A87C-D64EEC90B7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41A59-29C0-420D-94F7-2DC9AD34A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71851-95A5-4CFD-B4D2-767EBC870C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7679A-D65A-4B32-97A3-156A11E414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0C093-7A39-4CD5-BC93-5D8D4516A3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E65DB-C251-4CCE-85FB-22FD030207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E42D6-AE64-47E8-B621-E297AAED2E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DEAA5-FDE2-4EAC-9D5F-BC2674D869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8ED3C-8D6B-46D1-845E-7FDA54E011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98BCB-9BA1-41FF-A550-94B25D5E1A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F461D-F112-4505-BE10-EB7BFB460E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00886-8DBA-4710-84AD-5E512C8B8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CDBDA-A59B-4E61-BA13-481C8E55AB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E20BF-A9EE-4B1A-A4F2-46922C13D91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4BDC6-1FD8-405B-9284-ED148933E4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721B-ACF1-4FFF-A197-8CC34CC846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15AA-551B-4027-A6BF-B94C203F2F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6C13-844D-499B-AB64-DF1EAE0825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84C3-CD7C-4503-A8E6-1C68583F79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101D-22B0-48AE-B7E0-BAE546E137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8DD2-117D-442B-A2BF-D0D15B57C2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D6A8-A1F1-4E8D-9E7D-B3BA014A0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F11F-7F0F-4FAF-BE53-BD64ECDFEA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8093-0925-4BD1-8375-01F8EEEC60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95A3-44F6-447E-BE0E-E08EE6CC0D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04A1-5EA7-4C4E-8F44-29269E1E81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48C0-04EA-4C64-B95B-8E6165AC0F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B3823-52DD-496D-A009-0B99BE570A2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5D0B3-9AA9-47C2-AF88-4904B6C5E6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4437C-3295-4D01-ADA5-E419D7718A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DEF17-90F1-4BA3-869E-C74E20514B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DC100-04D4-4D00-B176-60EA08423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4F33E-64DF-4056-9612-D0922DADFB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CE8E0-0030-4963-8C75-465BC504A5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7E221-ACBF-4012-80FD-C040430316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3483A-F490-46B0-A660-33D46676D0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7CA8E-4E67-4B27-92B1-7FF58AA956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4B617-27DD-417D-84F6-D17EF3F0B4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1350D-7755-4AAE-A182-BE74556B1B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D4F6D-3FBD-4D52-AC7E-407899130A1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BA9C3-3644-4DFF-83DC-AAA4AA1007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74879-5F9E-4F43-926E-B633EEEE8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B22-17CC-49F6-805A-6F4573962F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B06-E49D-4781-B2F0-526F3288B62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704-D57C-4E1E-9588-CBDE9DDB76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418-0EB1-47BC-80D0-F5CC30678E6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B51-D433-4FE2-AB7C-BC34A7DDD90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51AA-20E2-4104-AF6C-15E1EEC0A49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DC4-62AD-43BF-95AB-3027669463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B45-CF48-41F0-837D-ECD3592F27B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F3B-13ED-4945-A31B-A576C6057CA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23B8-0E0D-42B4-9775-D79BC1C18F6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Interdisciplinary course of robotic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Proff. Andrea Bonarini e Maximiliano Romer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1° anno Pssd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 (5 g Marzo, 1 g Aprile, 1 g Maggi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ngl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25 Polimi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7f7f7f"/>
                </a:solidFill>
                <a:latin typeface="Arial"/>
              </a:rPr>
              <a:t>AIMS: </a:t>
            </a:r>
            <a:r>
              <a:rPr b="0" i="1" lang="it-IT" sz="2000" spc="-1" strike="noStrike">
                <a:solidFill>
                  <a:srgbClr val="7f7f7f"/>
                </a:solidFill>
                <a:latin typeface="Arial"/>
              </a:rPr>
              <a:t>Learn to design and implement robots in interdisciplinary groups (with Engineering students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7f7f7f"/>
                </a:solidFill>
                <a:latin typeface="Arial"/>
              </a:rPr>
              <a:t>HOW: </a:t>
            </a:r>
            <a:r>
              <a:rPr b="0" i="1" lang="it-IT" sz="2000" spc="-1" strike="noStrike">
                <a:solidFill>
                  <a:srgbClr val="7f7f7f"/>
                </a:solidFill>
                <a:latin typeface="Arial"/>
              </a:rPr>
              <a:t>Hands-on approach (in the lab). At the end of the course a running robot for each group will be produced. </a:t>
            </a:r>
            <a:br>
              <a:rPr sz="2000"/>
            </a:br>
            <a:r>
              <a:rPr b="0" i="1" lang="it-IT" sz="2000" spc="-1" strike="noStrike">
                <a:solidFill>
                  <a:srgbClr val="7f7f7f"/>
                </a:solidFill>
                <a:latin typeface="Arial"/>
              </a:rPr>
              <a:t>The theme for this year is “Robot Companion” with a characteristic mood and expression, and the robot will be evaluated also by final user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Designers need to develop the ability to design mass products that integrate interactive technology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f7f7f"/>
                </a:solidFill>
                <a:latin typeface="Arial"/>
              </a:rPr>
              <a:t>We offer: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The possibility of learning by doing  from our experience and from the knowledge of other people like you, Interdisciplinary workgroup experience, Credits and A lot of fun!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f7f7f"/>
                </a:solidFill>
                <a:latin typeface="Arial"/>
              </a:rPr>
              <a:t>Required (before starting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Access to the Laboratorio of Modelli e Prototipi (“patentino”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Passion for your work, Appetite for discover, Pleasure for share knowledge and work intensively in group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f7f7f"/>
                </a:solidFill>
                <a:latin typeface="Arial"/>
              </a:rPr>
              <a:t>Note</a:t>
            </a: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: Each group may need to spend some money (less than €50 per person) to buy electronic components and prototyping material, but we are working to find sponsors, as well as opportunities to show your work at exhibition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112968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68360" y="126828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Last year result examples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Robot Companion examples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1" name="Immagine 4" descr="robot.jpg"/>
          <p:cNvPicPr/>
          <p:nvPr/>
        </p:nvPicPr>
        <p:blipFill>
          <a:blip r:embed="rId1"/>
          <a:stretch/>
        </p:blipFill>
        <p:spPr>
          <a:xfrm>
            <a:off x="3886200" y="41148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62" name="Immagine 5" descr="aibo_toyota.jpg"/>
          <p:cNvPicPr/>
          <p:nvPr/>
        </p:nvPicPr>
        <p:blipFill>
          <a:blip r:embed="rId2"/>
          <a:stretch/>
        </p:blipFill>
        <p:spPr>
          <a:xfrm>
            <a:off x="6273720" y="4114800"/>
            <a:ext cx="2870280" cy="2438280"/>
          </a:xfrm>
          <a:prstGeom prst="rect">
            <a:avLst/>
          </a:prstGeom>
          <a:ln w="0">
            <a:noFill/>
          </a:ln>
        </p:spPr>
      </p:pic>
      <p:pic>
        <p:nvPicPr>
          <p:cNvPr id="463" name="Immagine 6" descr="Flick&amp;Karma_02.png"/>
          <p:cNvPicPr/>
          <p:nvPr/>
        </p:nvPicPr>
        <p:blipFill>
          <a:blip r:embed="rId3"/>
          <a:stretch/>
        </p:blipFill>
        <p:spPr>
          <a:xfrm>
            <a:off x="3886200" y="1693800"/>
            <a:ext cx="5257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0T15:00:18Z</dcterms:created>
  <dc:creator>Silvia</dc:creator>
  <dc:description/>
  <dc:language>en-US</dc:language>
  <cp:lastModifiedBy>Max</cp:lastModifiedBy>
  <cp:lastPrinted>2003-05-08T11:08:41Z</cp:lastPrinted>
  <dcterms:modified xsi:type="dcterms:W3CDTF">2014-07-30T15:28:37Z</dcterms:modified>
  <cp:revision>216</cp:revision>
  <dc:subject/>
  <dc:title>Inserire immagine della locandina, possibilmente in trasparenza e aggiungere Facoltà di Architettura Illustrazione prova di ammissione prof. Silvia Piardi (idem Cedolin)</dc:title>
</cp:coreProperties>
</file>